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84A-EA1D-4E51-97CB-BFA0C3B3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E87-2694-497D-B32C-DAF0E07E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07F-F213-4AE8-8C84-463C89C7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67C-629D-49B2-93C6-AFD7D528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A774-2D80-404E-96EA-F7B9DB6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448-9951-4866-B203-99FC6BF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09C-F2EC-4C4F-A298-693DA16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D798-7933-4AC6-95F4-0BC3DE3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C204-77D7-41C4-BF9E-C638D43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A4C-A07E-46BF-B7A1-B3776EA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4E3D-B2AA-4DB5-9C50-FD09AB42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241-BCD8-4062-8104-67043E2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D15-14F1-44BC-A848-1C16759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6099-1950-4264-9E16-C8BDE34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11E-0ACB-4F67-A77C-3FE2587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2F1F-6C39-4427-9C51-7A8BCFC6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ED5-1B32-493A-B7B7-CA881010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A7E-D819-4CF2-803A-180E5F0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ACB-49F7-40F1-9FE9-5201884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E01-E11E-4CF4-BBE5-923A28F0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434-AA2F-42DD-B03E-37542C5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518-560C-499C-93D6-6AE4DAA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BFE-C21D-4687-A11F-0317F30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172-08F7-4D05-A6B1-DD2907E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8CF-0729-4ABC-B042-A9F31F7703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75B-95AF-4EB9-A799-898D78D8D94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cationwithkris.wikispaces.com/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reating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Wikis”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educationwithkris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6" descr="computer_4"/>
          <p:cNvPicPr/>
          <p:nvPr/>
        </p:nvPicPr>
        <p:blipFill>
          <a:blip r:embed="rId2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Make A Wiki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wikispaces.c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Picture 5" descr="art_18"/>
          <p:cNvPicPr/>
          <p:nvPr/>
        </p:nvPicPr>
        <p:blipFill>
          <a:blip r:embed="rId2"/>
          <a:stretch/>
        </p:blipFill>
        <p:spPr>
          <a:xfrm>
            <a:off x="5146560" y="2286000"/>
            <a:ext cx="289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“create your own classroom wiki toda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l out the information in “join now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 sure to pick a wiki name your like, it will be difficult to change l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are ready to add content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’s that ea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computer_67"/>
          <p:cNvPicPr/>
          <p:nvPr/>
        </p:nvPicPr>
        <p:blipFill>
          <a:blip r:embed="rId1"/>
          <a:stretch/>
        </p:blipFill>
        <p:spPr>
          <a:xfrm>
            <a:off x="2514600" y="266076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people_15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6" descr="office_6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6" descr="men_36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6" descr="men_24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analyzing_computer_tv_head_md_wht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ministrative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are information to help make us more produ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6" descr="computer_79"/>
          <p:cNvPicPr/>
          <p:nvPr/>
        </p:nvPicPr>
        <p:blipFill>
          <a:blip r:embed="rId1"/>
          <a:stretch/>
        </p:blipFill>
        <p:spPr>
          <a:xfrm>
            <a:off x="5257800" y="2362320"/>
            <a:ext cx="3033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6" descr="computer_76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5" descr="computer_53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children_63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6" descr="keys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Entertainment-02-june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Kris Felicello</cp:lastModifiedBy>
  <dcterms:modified xsi:type="dcterms:W3CDTF">2010-08-01T17:18:28Z</dcterms:modified>
  <cp:revision>4</cp:revision>
  <dc:subject/>
  <dc:title>ALF 8/31/09 </dc:title>
</cp:coreProperties>
</file>